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7.wmf" ContentType="image/x-wmf"/>
  <Override PartName="/ppt/media/image38.wmf" ContentType="image/x-wmf"/>
  <Override PartName="/ppt/media/image39.wmf" ContentType="image/x-wmf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B7CB-F91E-4A83-88CC-8B8DA2D6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2CF5-E3E0-46A9-BA98-BE3AE818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03F3-68AE-4ABE-949C-08333F2E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AFEF-4F4D-4487-9C35-A7FC30E9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F08-7E11-49B2-8CC7-B85950CD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ED8-497C-43EA-B00D-81AFD6AE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3DF-865A-419A-9D82-93CA7544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FF9D-BB34-4D88-AECD-65BD5B1A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2F21-EBC7-4496-9D87-A192829E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DFD9-869C-4B8C-8389-96D5DCF7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E561-83F6-4895-A089-DD13FD4B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2B0-2D15-4948-9799-D4AD486C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AE61-3530-4105-8234-4520ADE09660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CuadroTexto"/>
          <p:cNvSpPr/>
          <p:nvPr/>
        </p:nvSpPr>
        <p:spPr>
          <a:xfrm>
            <a:off x="482760" y="907920"/>
            <a:ext cx="80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METABOLISMO DEL 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OSÍNTESI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: ETAPAS. ENZIMAS REGULADORAS. BLOQUEO METABÓLICO EN LA VÍA DE SÍNTESIS. COMENTARIO CLÍN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TABOLISMO DEL HEM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: BILIRRUBINA DIRECTA E INDIRECTA. ETAPA INTESTINAL. ICTERICIAS. ALTERACIONES EN PROCESOS PATOLÓG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611280" y="465120"/>
            <a:ext cx="731196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755640" y="57312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011240" y="765000"/>
            <a:ext cx="7777080" cy="5832720"/>
          </a:xfrm>
          <a:prstGeom prst="rect">
            <a:avLst/>
          </a:prstGeom>
          <a:ln w="0">
            <a:noFill/>
          </a:ln>
        </p:spPr>
      </p:pic>
      <p:sp>
        <p:nvSpPr>
          <p:cNvPr id="56" name="1 CuadroTexto"/>
          <p:cNvSpPr/>
          <p:nvPr/>
        </p:nvSpPr>
        <p:spPr>
          <a:xfrm>
            <a:off x="1730160" y="6083280"/>
            <a:ext cx="63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ALA DEHIDRASA (Zinc) </a:t>
            </a:r>
            <a:r>
              <a:rPr b="1" lang="es-A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 alto contenido de grupos -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2 CuadroTexto"/>
          <p:cNvSpPr/>
          <p:nvPr/>
        </p:nvSpPr>
        <p:spPr>
          <a:xfrm>
            <a:off x="7720920" y="45784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PB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572000" cy="309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2328840" y="3284640"/>
            <a:ext cx="4572000" cy="3141720"/>
          </a:xfrm>
          <a:prstGeom prst="rect">
            <a:avLst/>
          </a:prstGeom>
          <a:ln w="0">
            <a:noFill/>
          </a:ln>
        </p:spPr>
      </p:pic>
      <p:sp>
        <p:nvSpPr>
          <p:cNvPr id="60" name="1 Flecha derecha"/>
          <p:cNvSpPr/>
          <p:nvPr/>
        </p:nvSpPr>
        <p:spPr>
          <a:xfrm>
            <a:off x="4352760" y="2565360"/>
            <a:ext cx="522360" cy="14292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6 Conector angular"/>
          <p:cNvCxnSpPr/>
          <p:nvPr/>
        </p:nvCxnSpPr>
        <p:spPr>
          <a:xfrm flipV="1" rot="10800000">
            <a:off x="3707640" y="3283560"/>
            <a:ext cx="2016720" cy="649800"/>
          </a:xfrm>
          <a:prstGeom prst="bentConnector3">
            <a:avLst>
              <a:gd name="adj1" fmla="val 49991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908000" y="446040"/>
            <a:ext cx="5328000" cy="302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504036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84360" y="51912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1212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878040" y="0"/>
            <a:ext cx="70070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4 Rectángulo"/>
          <p:cNvSpPr/>
          <p:nvPr/>
        </p:nvSpPr>
        <p:spPr>
          <a:xfrm>
            <a:off x="611280" y="476280"/>
            <a:ext cx="8001000" cy="74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orbel"/>
              </a:rPr>
              <a:t>Porfiri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Las porfirias son un grupo de trastornos provocados por deficiencias de las enzimas implicadas en la síntesis del 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Hay excesiva acumulación y excreción de porfirinas y sus precurs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Las porfirinas son compuestos químicos que juegan un rol fundamental en los sistemas vivientes por sus propiedades físicas, químicas y biológic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sotw9_temp0"/>
          <p:cNvPicPr/>
          <p:nvPr/>
        </p:nvPicPr>
        <p:blipFill>
          <a:blip r:embed="rId1"/>
          <a:stretch/>
        </p:blipFill>
        <p:spPr>
          <a:xfrm>
            <a:off x="642960" y="642960"/>
            <a:ext cx="79707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55640" y="573120"/>
            <a:ext cx="7359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395280" y="-182520"/>
            <a:ext cx="82803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PORFIRIAS ADQUIRI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Baskerville Old Face"/>
                <a:ea typeface="Times New Roman"/>
              </a:rPr>
              <a:t>SATURNIS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s una enfermedad ocupacional (fábricas de acumuladores, pinturerías, etc.), producida por intoxicación con plomo, este es neurotóxico, se acumula en hígado y hues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traviesa la placenta y en niños se ha observado mayor sensibilida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as vías de entrada pueden ser: inhalación, ingestión o absorción cután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l mecanismo de acción del plomo es inhibir la ALA-D oxidando sus grupos sulfhidrilos, desplazando al Zinc y ocupando su lug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Rectángulo"/>
          <p:cNvSpPr/>
          <p:nvPr/>
        </p:nvSpPr>
        <p:spPr>
          <a:xfrm>
            <a:off x="285840" y="1000080"/>
            <a:ext cx="84294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Baskerville Old Face"/>
                <a:ea typeface="Times New Roman"/>
              </a:rPr>
              <a:t>Los síntomas clínicos son</a:t>
            </a: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onvulsiones hasta el com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esórdenes del comportamiento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Parálisi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nemia (reticulocitosis y punteado basófilo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 altera la biosíntesis del hemo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efropatías, gota, cáncer, esterilidad, abor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971640" y="735120"/>
            <a:ext cx="7488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116000" y="84312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971640" y="73512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900000" y="681120"/>
            <a:ext cx="67676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755640" y="57312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00000" y="681120"/>
            <a:ext cx="7704360" cy="5778360"/>
          </a:xfrm>
          <a:prstGeom prst="rect">
            <a:avLst/>
          </a:prstGeom>
          <a:ln w="0">
            <a:noFill/>
          </a:ln>
        </p:spPr>
      </p:pic>
      <p:sp>
        <p:nvSpPr>
          <p:cNvPr id="77" name="1 Elipse"/>
          <p:cNvSpPr/>
          <p:nvPr/>
        </p:nvSpPr>
        <p:spPr>
          <a:xfrm>
            <a:off x="4356000" y="2492280"/>
            <a:ext cx="395280" cy="3603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346640" y="5373720"/>
            <a:ext cx="414360" cy="377640"/>
          </a:xfrm>
          <a:prstGeom prst="rect">
            <a:avLst/>
          </a:prstGeom>
          <a:ln w="0">
            <a:noFill/>
          </a:ln>
        </p:spPr>
      </p:pic>
      <p:sp>
        <p:nvSpPr>
          <p:cNvPr id="79" name="2 CuadroTexto"/>
          <p:cNvSpPr/>
          <p:nvPr/>
        </p:nvSpPr>
        <p:spPr>
          <a:xfrm>
            <a:off x="395280" y="4148280"/>
            <a:ext cx="201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Pigmento amarillo-naranja, tóxico pasa a sangre, difunde a través de membranas, insoluble en ag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CuadroTexto"/>
          <p:cNvSpPr/>
          <p:nvPr/>
        </p:nvSpPr>
        <p:spPr>
          <a:xfrm>
            <a:off x="5796360" y="5164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3030480" y="5170320"/>
            <a:ext cx="414360" cy="49392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4932720" y="5164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5 CuadroTexto"/>
          <p:cNvSpPr/>
          <p:nvPr/>
        </p:nvSpPr>
        <p:spPr>
          <a:xfrm>
            <a:off x="3924720" y="5170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00000" y="704880"/>
            <a:ext cx="7344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286000" y="3087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6" name="1 CuadroTexto"/>
          <p:cNvSpPr/>
          <p:nvPr/>
        </p:nvSpPr>
        <p:spPr>
          <a:xfrm>
            <a:off x="468360" y="836640"/>
            <a:ext cx="8207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En la etapa hepática bilirrubina se separa de albúmina y entra por difusión facilitada: bilitranslocas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Bilirrubina en el citosol se une a Ligandina o Proteína Y (glutatión s- transferas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La conjugación se lleva a cabo en el R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La bilirrubina conjugada es hidrosoluble, así es excretada y vehiculizada por bil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826920" y="627120"/>
            <a:ext cx="71298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819000" y="620640"/>
            <a:ext cx="756936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91960" y="-9360"/>
            <a:ext cx="8558280" cy="6876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0" y="5084640"/>
            <a:ext cx="2590920" cy="676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611280" y="4446720"/>
            <a:ext cx="334800" cy="628560"/>
          </a:xfrm>
          <a:prstGeom prst="rect">
            <a:avLst/>
          </a:prstGeom>
          <a:ln w="0">
            <a:noFill/>
          </a:ln>
        </p:spPr>
      </p:pic>
      <p:sp>
        <p:nvSpPr>
          <p:cNvPr id="91" name="1 Rectángulo"/>
          <p:cNvSpPr/>
          <p:nvPr/>
        </p:nvSpPr>
        <p:spPr>
          <a:xfrm>
            <a:off x="4570560" y="5761080"/>
            <a:ext cx="3170160" cy="10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4"/>
          <a:stretch/>
        </p:blipFill>
        <p:spPr>
          <a:xfrm>
            <a:off x="4016520" y="5267160"/>
            <a:ext cx="3724200" cy="493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5"/>
          <a:stretch/>
        </p:blipFill>
        <p:spPr>
          <a:xfrm>
            <a:off x="3430440" y="3882960"/>
            <a:ext cx="1170000" cy="1384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3635280" y="5816520"/>
            <a:ext cx="1420920" cy="49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7"/>
          <a:stretch/>
        </p:blipFill>
        <p:spPr>
          <a:xfrm>
            <a:off x="3548160" y="6310440"/>
            <a:ext cx="20113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 Rectángulo"/>
          <p:cNvSpPr/>
          <p:nvPr/>
        </p:nvSpPr>
        <p:spPr>
          <a:xfrm>
            <a:off x="2627280" y="803160"/>
            <a:ext cx="1368360" cy="10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24000" y="92160"/>
            <a:ext cx="8569080" cy="6727680"/>
          </a:xfrm>
          <a:prstGeom prst="rect">
            <a:avLst/>
          </a:prstGeom>
          <a:ln w="0">
            <a:noFill/>
          </a:ln>
        </p:spPr>
      </p:pic>
      <p:sp>
        <p:nvSpPr>
          <p:cNvPr id="98" name="2 Rectángulo"/>
          <p:cNvSpPr/>
          <p:nvPr/>
        </p:nvSpPr>
        <p:spPr>
          <a:xfrm>
            <a:off x="2124000" y="0"/>
            <a:ext cx="1584360" cy="80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Rectángulo"/>
          <p:cNvSpPr/>
          <p:nvPr/>
        </p:nvSpPr>
        <p:spPr>
          <a:xfrm>
            <a:off x="2195640" y="5373720"/>
            <a:ext cx="9363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68360" y="163440"/>
            <a:ext cx="8136000" cy="6475320"/>
          </a:xfrm>
          <a:prstGeom prst="rect">
            <a:avLst/>
          </a:prstGeom>
          <a:ln w="0">
            <a:noFill/>
          </a:ln>
        </p:spPr>
      </p:pic>
      <p:sp>
        <p:nvSpPr>
          <p:cNvPr id="101" name="2 Rectángulo"/>
          <p:cNvSpPr/>
          <p:nvPr/>
        </p:nvSpPr>
        <p:spPr>
          <a:xfrm>
            <a:off x="1692360" y="6453360"/>
            <a:ext cx="71892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 Rectángulo"/>
          <p:cNvSpPr/>
          <p:nvPr/>
        </p:nvSpPr>
        <p:spPr>
          <a:xfrm>
            <a:off x="4570560" y="765000"/>
            <a:ext cx="15858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58200" cy="6365880"/>
          </a:xfrm>
          <a:prstGeom prst="rect">
            <a:avLst/>
          </a:prstGeom>
          <a:ln w="0">
            <a:noFill/>
          </a:ln>
        </p:spPr>
      </p:pic>
      <p:sp>
        <p:nvSpPr>
          <p:cNvPr id="104" name="2 Rectángulo"/>
          <p:cNvSpPr/>
          <p:nvPr/>
        </p:nvSpPr>
        <p:spPr>
          <a:xfrm>
            <a:off x="4859280" y="235080"/>
            <a:ext cx="16574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11280" y="46512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258920" y="912960"/>
            <a:ext cx="6192720" cy="4703760"/>
          </a:xfrm>
          <a:prstGeom prst="rect">
            <a:avLst/>
          </a:prstGeom>
          <a:ln w="0">
            <a:noFill/>
          </a:ln>
        </p:spPr>
      </p:pic>
      <p:sp>
        <p:nvSpPr>
          <p:cNvPr id="46" name="1 CuadroTexto"/>
          <p:cNvSpPr/>
          <p:nvPr/>
        </p:nvSpPr>
        <p:spPr>
          <a:xfrm>
            <a:off x="3558600" y="580536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HEMOGLOBINA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544680" y="1125360"/>
            <a:ext cx="813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HEM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UNA FERROPORFIR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ES EL GRUPO PROSTÉTICO DE MOLÉCULAS DE GRAN IMPORTANCIA FUNCIONAL LLAMADAS: HEMOPROTEÍN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HEMO FORMADO P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- CICLO TETRAPIRRÓLICO DERIVADO DE LA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PROTOPORFIRI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826920" y="608040"/>
            <a:ext cx="7699680" cy="5629320"/>
          </a:xfrm>
          <a:prstGeom prst="rect">
            <a:avLst/>
          </a:prstGeom>
          <a:ln w="0">
            <a:noFill/>
          </a:ln>
        </p:spPr>
      </p:pic>
      <p:sp>
        <p:nvSpPr>
          <p:cNvPr id="49" name="1 CuadroTexto"/>
          <p:cNvSpPr/>
          <p:nvPr/>
        </p:nvSpPr>
        <p:spPr>
          <a:xfrm>
            <a:off x="1076040" y="5837400"/>
            <a:ext cx="64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ATALASAS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PEROXID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23960" y="549360"/>
            <a:ext cx="7199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50920" y="523800"/>
            <a:ext cx="8539200" cy="6073920"/>
          </a:xfrm>
          <a:prstGeom prst="rect">
            <a:avLst/>
          </a:prstGeom>
          <a:ln w="0">
            <a:noFill/>
          </a:ln>
        </p:spPr>
      </p:pic>
      <p:sp>
        <p:nvSpPr>
          <p:cNvPr id="52" name="1 CuadroTexto"/>
          <p:cNvSpPr/>
          <p:nvPr/>
        </p:nvSpPr>
        <p:spPr>
          <a:xfrm>
            <a:off x="688680" y="6031080"/>
            <a:ext cx="37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+ ADICIÓN DEL HIER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4:12:38Z</dcterms:created>
  <dc:creator>Preferred Customer</dc:creator>
  <dc:description/>
  <dc:language>en-US</dc:language>
  <cp:lastModifiedBy>Preferred Customer</cp:lastModifiedBy>
  <dcterms:modified xsi:type="dcterms:W3CDTF">2014-11-12T19:25:02Z</dcterms:modified>
  <cp:revision>5</cp:revision>
  <dc:subject/>
  <dc:title>Presentación de PowerPoint</dc:title>
</cp:coreProperties>
</file>